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727-D1E3-4289-9EAF-F7FCDE34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177-256A-4652-8A93-D01BDE29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A13-778C-449B-8361-948C9947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E86-319F-4543-BC2B-D60A81E3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16C-B972-4269-96A8-D451A3BA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00B-A261-483D-9958-082B076C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DB6-9D64-4590-A288-218EEBC6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1D7-49E1-4452-B81B-4692175B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152-F1CF-41A6-836A-93E98680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C7A-5FCA-4411-A825-8148A5AA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C9B-9B1F-4BD7-8853-7F6755DD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C28-3A8E-4722-9EA7-A9CF2B98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3C9B-3454-43A8-9D1F-88519110C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5024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02480" y="0"/>
            <a:ext cx="14036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84720" y="838080"/>
            <a:ext cx="12380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1160" y="838080"/>
            <a:ext cx="13208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2760" y="838080"/>
            <a:ext cx="123840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82000" y="838080"/>
            <a:ext cx="132048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02480" y="838080"/>
            <a:ext cx="14036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838080"/>
            <a:ext cx="14036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198108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82000" y="380880"/>
            <a:ext cx="13204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02480" y="380880"/>
            <a:ext cx="1403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1160" y="380880"/>
            <a:ext cx="13208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22760" y="380880"/>
            <a:ext cx="1238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80880"/>
            <a:ext cx="1238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80880"/>
            <a:ext cx="1403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0880"/>
            <a:ext cx="1981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3000" y="4572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3:55Z</dcterms:modified>
  <cp:revision>71</cp:revision>
  <dc:subject/>
  <dc:title>Contrôle interne des risques</dc:title>
</cp:coreProperties>
</file>